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3F3-2171-46C3-91FD-950779FF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56E-CAE9-4F12-9939-11278C17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50C-B93E-43FD-BB47-11D54328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5E3-F1A6-4AF7-ADFA-EF6A62DC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5392-654F-410D-83E6-C968D328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A55D-6BDD-4A61-A19D-C29F0C1C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EBB3-A372-408E-8E2B-4E8ED0CE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0076-4E2F-417C-9AEA-8B1ED3D3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2A04-E251-4D09-8E77-2F552C36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5B7C-075D-42D3-B63C-CCD8F0D4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0862-A261-4F97-B130-52A03A10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6A0-1354-4537-A176-DFBC5FFE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205E-1D44-4956-8553-AB01402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64FB-2DD6-475F-8DB1-1DBCCA92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9023-B9CB-4057-B76F-5DE5687B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1F0D-FC24-4B4E-9DF1-3F7FF401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1374-B5C5-429F-9789-44DFF5D8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7DF0-A4C2-4D06-8459-F0FF4EC0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18DA-5AA4-4C67-9B71-10569457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199E-4DB7-467E-AE05-B749E795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16910-8618-45B0-ACEC-47435308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BD38-5F5A-4603-8C4A-71065C2A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66A-2CC0-47A3-82FC-6DD5ACD1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A582-DEFA-4FE2-8702-D4570AEE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3EB8-9F95-4BF5-8BF8-BF58E83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5785-A50A-4B14-BFF0-8ED6B13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D27A-8482-4933-B557-4928558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8905B-0830-4267-92D4-73B8F482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AE501-5DE1-498F-8566-DB78A641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A948-929B-4C8C-B329-006C3ED8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6AE-DAF9-41DD-86E7-C92B36FE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6F0-0A5E-4856-AEF6-DD5F47FC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CCE-CB0F-4BE2-87C6-C743A340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9C4-EB31-4279-B5A5-04AE679D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02D-F6CC-4FDA-BE74-954380B4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676-346D-4DC0-A243-A415EE69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C7C9-C22E-4D5F-A6DE-C89BC4EEB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AAC5-0642-49CD-8068-41446A7209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361E-0D28-4DD3-912A-ED46BB3BCA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46483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ien fa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0400" y="44197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ls sont très joli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2819520"/>
            <a:ext cx="2895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2860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yez prud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81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e mange pas tou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4267080"/>
            <a:ext cx="327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’est un peu trop f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35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n anniversaire Bébé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made the bre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made the bowl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as uncle Gaston do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as aunt Lison do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as Mother sew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planted the flow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as Arlette pick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as Arthur eat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ere the cousins play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se birthday was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72200" y="358128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 sent bi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28800" y="20574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 fabrique beauco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50292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’est un grand poiss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400800" y="3276720"/>
            <a:ext cx="274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le chante bel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06:17Z</dcterms:created>
  <dc:creator>CVJH-LAB</dc:creator>
  <dc:description/>
  <dc:language>en-US</dc:language>
  <cp:lastModifiedBy>nield411</cp:lastModifiedBy>
  <dcterms:modified xsi:type="dcterms:W3CDTF">2008-02-26T04:40:57Z</dcterms:modified>
  <cp:revision>14</cp:revision>
  <dc:subject/>
  <dc:title>Slide 1</dc:title>
</cp:coreProperties>
</file>